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94E-F25A-4FF4-AF1E-93D9D8E5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5C5-4F44-44B7-AC78-EC6D0C78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7D6-6C87-4ED9-AA22-1EA2C73F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CB3-1F60-474D-B5AC-02082047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8049-A3D3-49A2-89EF-63060240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30F2-2E6F-4950-AB12-1528B05B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EF43-F651-43BD-B649-EEB04B4B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DCAD-FCF6-485F-8C62-BAFDD22D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0E75-B5AF-4AC0-8026-E28986C1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464E-F288-4E5A-8844-3035C5A8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35E8-F67C-4A95-AE40-B22397EF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CF7-8A2C-4AE0-87A1-6EFA2BAF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574F-1501-462A-8FDD-79993A5F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AC9C-9C82-49D7-9330-9C59DB97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9170-62E6-41CC-86A2-FD2F2A6C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16F3-36E5-46E9-BE65-95145081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33FF-56D2-41ED-96B4-3BD736E6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263-2AFB-47C5-AC08-236F1B57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37B-4CBE-4B92-A0B8-86A036AD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952-6551-40F8-8684-6520F8F0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02B9-8EA5-4160-A0C8-550623E1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72B-CCBF-44A9-A78A-3941AE43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92B-B8C5-4CC5-975B-18960737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71E-B4DA-4494-B49D-E32506F9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A751-F6F4-4B6B-A534-3DD3048939C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27E0-CEA5-4A48-8FD6-3FF7F7A505A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Strongest On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ocabul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ngero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 saf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vehicle that carries astronauts into s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instrument that makes things far away appear to be clo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ngero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Not saf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naw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est to find out somet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person who goes into s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ites at and wears aw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naw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Bites at and wears aw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arra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natural force that makes everything on Earth move toward 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person who tells a sto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ehicle that carries astronauts into s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arra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A person who tells a sto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la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ople in the same fami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natural force that makes everything on Earth move toward 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11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person who goes into s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la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  People in the same fami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23:21:01Z</dcterms:created>
  <dc:creator>Romona Hunt</dc:creator>
  <dc:description/>
  <dc:language>en-US</dc:language>
  <cp:lastModifiedBy>Romona Hunt</cp:lastModifiedBy>
  <dcterms:modified xsi:type="dcterms:W3CDTF">2007-09-16T00:46:29Z</dcterms:modified>
  <cp:revision>4</cp:revision>
  <dc:subject/>
  <dc:title>Exploring Space</dc:title>
</cp:coreProperties>
</file>